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A1B8-26D5-4276-999A-2EB630F8E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eaturepics.com/online/Green-Plants-Background-1387747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unm.edu/ccouncil/Biology_203/Summaries/FloweringPlant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uperstaar.org/grade-2/life-science/210-adaptations-and-life-cycles/210b-characteristics-of-plants/water-movement-in-plant-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isglory.com/photos2/Green%20Leav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.lifeeasy.org/810/what-is-the-difference-between-simple-leaf-and-compound-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bc.co.uk/bitesize/standard/biology/world_of_plants/making_food/revision/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hite spruce from: http://simple.wikipedia.org/wiki/Gymn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onut leaves used for roofing in Sri Lanka.  Image from: http://blog.trekurious.com/coconut-and-its-many-us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uperstaar.org/grade-2/life-science/210-adaptations-and-life-cycles/210b-characteristics-of-plants/water-movement-in-plant-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allpaperswide.com/bamboo_stems-wallpap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howstuffworks.com/dictionary/plant-terms/stem-info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AD6-EC29-45DE-93D2-96BFF371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038-7156-4E2A-82CB-5D4916ED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11E-51CF-4BBD-B94D-EB94B496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534-2855-4D90-8872-BF85CFDD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82F-0A95-41F2-8D7E-7F6734F3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3997-BE83-4CBB-A464-F3BB9D57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38E-32DB-4A7C-8CB6-1D357339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620-0751-4934-A34F-39BF8D10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A29-25ED-44D8-A918-DB4A175A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BF6-6053-415D-857D-E855040B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E75-7650-47BC-BFBC-016C12FE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D5E3-1D11-4DDD-8064-423FFCDE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7BC9-9E3B-4B4A-AABA-51294BBF0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s &amp; 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cot vs. Eudicot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932120"/>
            <a:ext cx="853416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Specia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0" y="16761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ground stems (tubers, corms, rhizomes) store water and starch &amp; help with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-based products (furniture, paper, etc.) &amp; wood for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 (firewood, bio-ethanol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(potatoes, asparagus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iles (linen, hemp, bamboo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ite of photosynthesis in most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exchange between interior of plant and exter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2055960"/>
            <a:ext cx="42670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of 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36920" y="1981080"/>
            <a:ext cx="407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52560" y="609480"/>
            <a:ext cx="7237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Specia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 of plants through physical or chemical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ymnosperm leaves specialized to prevents cells from fr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11480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&amp; beverages, e.g., various herb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mellia sinen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x (from cuticle) used in cosmetic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ns &amp; psychotropic chemicals used in medicin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38840" y="1523880"/>
            <a:ext cx="3305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vascular tissue in leaves to vascular tissue i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other structures o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43400" y="2558880"/>
            <a:ext cx="4572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baceous vs. Wo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11280" y="1981080"/>
            <a:ext cx="431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3:46:10Z</dcterms:created>
  <dc:creator>rubina khan</dc:creator>
  <dc:description/>
  <dc:language>en-US</dc:language>
  <cp:lastModifiedBy>rubina khan</cp:lastModifiedBy>
  <dcterms:modified xsi:type="dcterms:W3CDTF">2015-02-26T14:22:41Z</dcterms:modified>
  <cp:revision>74</cp:revision>
  <dc:subject/>
  <dc:title>PowerPoint Presentation</dc:title>
</cp:coreProperties>
</file>